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D930-47D1-49BA-8CC1-15E54F8AC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E394-5AEC-40EE-8DC5-5BCF3F856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A031-A3A5-44B6-9056-F4E5AC60C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8280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8652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7908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8280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8652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8FD9-7EDC-42D6-88CF-CAE40729B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4F4B-F2F0-4101-BC24-ED53856EE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6319-7C19-41A4-82EE-0AC6E6B2A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ED50-B432-4EDF-9C37-AFCE09FB3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6AAF-595B-4B27-B21E-CCB3F3360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E854-0D2B-43E5-B362-4B07347FE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0BF3-E2D5-4127-AD0D-443F2777D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CA94-6AEB-4AB7-9AA3-6EE0C088C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8704-223D-4A53-9C60-DDFF626D1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03640" y="2924280"/>
            <a:ext cx="360072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1F3A8-D333-4434-9D2E-3718D0EDEF1B}" type="slidenum"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章  实时时钟芯片应用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对于一些测控系统或者手持式设备，经常需要显示以及设定时间。目前，市场上有多种实时时钟芯片提供了这类功能。这种可编程的实时时钟芯片内置了可编程的日历时钟以及一定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器，用于设定以及保存时间。另外，实时时钟芯片一般内置闰年补偿系统，计时很准确。其采用备份电池供电，在系统断电时仍可以工作。实时时钟芯片的这些优点，使得其广泛应用于需要时间显示的场合。本章详细介绍了美国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ALLA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公司推出实时时钟芯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功能、控制指令以及时间的操作。本章通过一个具体的实例，讲解了如何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来读写实时时钟芯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0.2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主程序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例的程序功能是首先初始化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然后通过输入不同的字符来分别执行初始化、时钟操作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操作。分别介绍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输入字符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或者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进入时钟操作。此时可以选择显示时间（输入字符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或者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或者写时钟（输入字符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w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或者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W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；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输入字符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或者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进入初始化操作。此时可以详细设置时间和日期等；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输入字符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或者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进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操作。此时可以选择单字节写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输入字符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或者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、多字节写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输入字符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w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或者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W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或者多字节读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输入字符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或者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0.2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复位函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复位函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esetDS1302(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实现对实时时钟芯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硬件复位操作。程序中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ST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引脚来进行复位操作，其程序代码示例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void ResetDS1302() 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CLK = 0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STB = 0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STB = 1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0.2.5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字节读取函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字节读取函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eadByteDS1302(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用于读取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内部数据。该函数中，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CLK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引脚时钟下，通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O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引脚逐位读取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的字节数据，并通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etur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返回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0.2.6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字节写入函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字节写入函数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WriteByteDS130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用于向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写入寄存器地址或者数据。该函数中，在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CLK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引脚时钟下，通过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IO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引脚逐位写入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位的字节数据。其程序代码示例如下：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void WriteByteDS1302(uchar W_Byte) 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uchar i;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for(i = 0; i &lt; 8; ++i)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循环逐位写入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I_O = 0;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if(W_Byte &amp; 0x01) I_O = 1;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CLK = 0;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时钟操作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CLK = 1;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W_Byte &gt;&gt;= 1;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移位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0.2.7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初始化函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初始化函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nitDS1302(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用于对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时钟寄存器进行初始化操作。该函数中，分别输入需要设置的年、月、星期、日、小时、分钟和秒的数值，然后调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esetDS1302(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函数复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并允许涓流充电，最后以多字节突发方式写入时钟数据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0.2.8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时钟字节写入函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时钟字节写入函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WriteClkByte(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用于对时钟寄存器执行写操作。该函数中，首先获取时钟寄存器地址以及时钟数据，然后分别调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WriteByteDS1302(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函数来执行写寄存器地址和写数据操作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0.2.9  RAM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字节写入函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字节写入函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WriteRamByte(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用于对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片内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执行写操作。该函数中，首先获取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地址以及时钟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据，然后分别调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WriteByteDS1302(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函数来执行写寄存器地址和写数据操作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0.2.10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时钟寄存器内容显示函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时钟寄存器内容显示函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isplay(uchar loop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用于读取并显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内部时钟寄存器中的数据。该函数中，首先复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然后采用多字节突发方式读取时钟寄存器中的数据，然后每秒显示一次结果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0.2.1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多字节突发方式读取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多字节突发方式读取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函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urstReadRAM(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用于读取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内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数据。该函数中，首先以多字节突发方式来读取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片内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并将数据保存在数组中，接着将各个数据输出显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0.2.1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多字节突发方式写入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多字节突发方式写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函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urstWriteRAM(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用于对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片内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执行写操作。该函数中，首先获取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据，然后采用多字节突发方式来写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据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000" spc="-1" strike="noStrike">
                <a:solidFill>
                  <a:srgbClr val="000000"/>
                </a:solidFill>
                <a:latin typeface="宋体"/>
              </a:rPr>
              <a:t>30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实时时钟芯片</a:t>
            </a:r>
            <a:r>
              <a:rPr b="0" sz="30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概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是美国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ALLA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公司推出的一款实时时钟芯片。其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线串行接口，芯片内部集成了可编程日历时钟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字节的静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日历时钟可自动进行闰年补偿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芯片自身还具有对备份电池进行涓流充电功能，可有效长备份电池的使用寿命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实时时钟芯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以其计时准确、接口简单、使用方便、工作电压范围宽和低功耗等优点，得到了广泛的应用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0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小结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章详细介绍了实时时钟芯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命令字节和数据格式，并介绍了两种数据传输方式：单字节传输方式和多字节突发传输方式。本章通过一个具体的实例，讲解了如何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单片机来实现对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控制，在该实例中分别采用了单字节传输方式和多字节传输方式来对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时钟寄存器以及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进行操作。实时时钟常用于需要时间设定和显示的场合，在单片机应用系统中很常见，熟练掌握本章可以轻松实现单片机的时钟显示扩展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0.1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实时时钟芯片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概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实时时钟芯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引脚排列，如图所示。其中各个引脚功能如下所述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590920" y="2971800"/>
            <a:ext cx="449568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0.1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实时时钟芯片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命令字节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实时时钟芯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为从器件，由外部微处理器来控制数据传输。每次传送时由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向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写入一个命令字节开始，后面是数据字节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143000" y="3962520"/>
            <a:ext cx="7243920" cy="80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0.1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实时时钟芯片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数据格式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实时时钟芯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据格式分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时钟两种操作，下面分别进行介绍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6520" y="2666880"/>
            <a:ext cx="6095880" cy="36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30.1.4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实时时钟芯片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数据传输方式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实时时钟芯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与外部微处理器之间通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O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引脚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CLK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引脚传送同步串行数据。其中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CLK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为串行通信时的位同步时钟，一个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CLK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脉冲传送一位数据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每次数据传送时以字节为单位，先发送低位，再发送高位，因此传送一个字节需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CLK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脉冲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数据传输可采用单字节或多字节突发方式进行。下面分别进行介绍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981080" y="4648320"/>
            <a:ext cx="6205680" cy="168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0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单片机读写实时时钟芯片实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实时时钟芯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采用串行接口，只需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根引脚便可以完成操作，其使用非常方便。这里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89S5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单片机作为外部微处理器，来对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进行控制。当然也可以选择其它兼容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单片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0.2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电路图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这里给出单片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89S5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读写实时时钟芯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电路图，如图所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057400" y="2438280"/>
            <a:ext cx="6095880" cy="39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0.2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建立项目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这里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言编写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89S5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上的程序，来实现对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控制。首先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集成开发环境中建立项目，具体操作步骤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590920" y="2971800"/>
            <a:ext cx="4724280" cy="33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03:02:31Z</dcterms:created>
  <dc:creator>cheng</dc:creator>
  <dc:description/>
  <dc:language>en-US</dc:language>
  <cp:lastModifiedBy>cheng</cp:lastModifiedBy>
  <dcterms:modified xsi:type="dcterms:W3CDTF">2008-10-13T08:52:34Z</dcterms:modified>
  <cp:revision>2</cp:revision>
  <dc:subject/>
  <dc:title>第30章  实时时钟芯片应用</dc:title>
</cp:coreProperties>
</file>